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97.jpeg" ContentType="image/jpe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57.png" ContentType="image/png"/>
  <Override PartName="/ppt/media/image20.png" ContentType="image/png"/>
  <Override PartName="/ppt/media/image28.jpeg" ContentType="image/jpeg"/>
  <Override PartName="/ppt/media/image89.png" ContentType="image/png"/>
  <Override PartName="/ppt/media/image59.png" ContentType="image/png"/>
  <Override PartName="/ppt/media/image24.jpeg" ContentType="image/jpeg"/>
  <Override PartName="/ppt/media/image52.png" ContentType="image/png"/>
  <Override PartName="/ppt/media/image95.jpeg" ContentType="image/jpeg"/>
  <Override PartName="/ppt/media/image71.png" ContentType="image/png"/>
  <Override PartName="/ppt/media/image21.jpeg" ContentType="image/jpeg"/>
  <Override PartName="/ppt/media/image65.png" ContentType="image/png"/>
  <Override PartName="/ppt/media/image80.jpeg" ContentType="image/jpeg"/>
  <Override PartName="/ppt/media/image60.png" ContentType="image/png"/>
  <Override PartName="/ppt/media/image64.png" ContentType="image/png"/>
  <Override PartName="/ppt/media/image66.png" ContentType="image/png"/>
  <Override PartName="/ppt/media/image67.png" ContentType="image/png"/>
  <Override PartName="/ppt/media/image63.png" ContentType="image/png"/>
  <Override PartName="/ppt/media/image98.png" ContentType="image/png"/>
  <Override PartName="/ppt/media/image86.png" ContentType="image/png"/>
  <Override PartName="/ppt/media/image74.png" ContentType="image/png"/>
  <Override PartName="/ppt/media/image62.png" ContentType="image/png"/>
  <Override PartName="/ppt/media/image96.jpeg" ContentType="image/jpeg"/>
  <Override PartName="/ppt/media/image77.png" ContentType="image/png"/>
  <Override PartName="/ppt/media/image87.png" ContentType="image/png"/>
  <Override PartName="/ppt/media/image61.png" ContentType="image/png"/>
  <Override PartName="/ppt/media/image5.jpeg" ContentType="image/jpeg"/>
  <Override PartName="/ppt/media/image50.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69.png" ContentType="image/png"/>
  <Override PartName="/ppt/media/image32.png" ContentType="image/png"/>
  <Override PartName="/ppt/media/image70.png" ContentType="image/png"/>
  <Override PartName="/ppt/media/image27.jpeg" ContentType="image/jpeg"/>
  <Override PartName="/ppt/media/image10.jpeg" ContentType="image/jpeg"/>
  <Override PartName="/ppt/media/image2.png" ContentType="image/png"/>
  <Override PartName="/ppt/media/image14.png" ContentType="image/png"/>
  <Override PartName="/ppt/media/image22.jpeg" ContentType="image/jpeg"/>
  <Override PartName="/ppt/media/image81.jpeg" ContentType="image/jpeg"/>
  <Override PartName="/ppt/media/image75.png" ContentType="image/png"/>
  <Override PartName="/ppt/media/image1.jpeg" ContentType="image/jpeg"/>
  <Override PartName="/ppt/media/image11.png" ContentType="image/png"/>
  <Override PartName="/ppt/media/image48.png" ContentType="image/png"/>
  <Override PartName="/ppt/media/image36.png" ContentType="image/png"/>
  <Override PartName="/ppt/media/image9.jpeg" ContentType="image/jpeg"/>
  <Override PartName="/ppt/media/image90.png" ContentType="image/png"/>
  <Override PartName="/ppt/media/image25.png" ContentType="image/png"/>
  <Override PartName="/ppt/media/image19.jpeg" ContentType="image/jpeg"/>
  <Override PartName="/ppt/media/image29.png" ContentType="image/png"/>
  <Override PartName="/ppt/media/image51.wmf" ContentType="image/x-wmf"/>
  <Override PartName="/ppt/media/image94.png" ContentType="image/png"/>
  <Override PartName="/ppt/media/image15.png" ContentType="image/png"/>
  <Override PartName="/ppt/media/image92.jpeg" ContentType="image/jpeg"/>
  <Override PartName="/ppt/media/image3.png" ContentType="image/png"/>
  <Override PartName="/ppt/media/image33.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5498F-2DA6-44FD-A12C-F15977065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EE6A3-DB9A-43B7-931A-E76898216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529516-9536-496A-AF70-EF22AAD99C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42848-9BD7-498A-B6EB-C5D3C0A4A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878B9-E1F8-46A7-973D-D62BED96A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03C1B-82D6-4019-8409-AE8AE4380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F83B16-7B0E-40CD-B86C-14E9FB97B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70954E-407F-4A05-9124-CBF328C3CA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62766F-D850-43E3-9A3F-58C66890DC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E29E82-B18A-4B30-B84A-2E06A9E5A6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DC44B6-FB86-4933-BBBE-5BBC7AE81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FF2B5A-CD76-4AEB-BF7E-D607B6725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8981C5-FA2C-46F2-A4B8-2F0F0B7AA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672031-284D-4801-A663-98E166AA1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3DA25-C824-4F48-BAAD-CFD50E515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CBF37-94FE-4276-8513-2569D1369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A12E4-2662-4BB2-AC24-2E44B42C7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7BF3A-A264-4A5D-A8EA-CB95C833A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F5817-A522-4433-90E2-B28249CA3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243CC0-2288-4628-9FF2-FCCADEBB2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B3A1FE-5A56-4ED0-8940-5CD7D3760F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BBF973-38EF-4ADF-8837-F1C63DF330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173BEF-1206-437B-BEAD-3BC3D51E10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BEFC80-876E-4CEC-86D5-947576532E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C4D4E2-130F-4A40-B56A-33FC134127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024D5C-0EB8-4A00-98CD-F48B5C88C1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35E8A2-7FEF-4F76-B17E-A615B3132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0C574F-DB26-4879-BA84-7DA0FD6E94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1C2407-77B6-43DF-83DA-D441E9B506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168C-389F-47F7-9597-58AD3261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8580FF-7DDE-4132-BD75-4AC7297E2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946722-3489-441A-95D5-93266727E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CE502E-023A-4828-9E82-F1BACCC954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5F4A22-A9CA-4BC9-BF87-1A3F955293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BDCE3B-6BC8-4E34-8831-4F2D5B469B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688B71-4C35-4407-A958-AF39C970ED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69D08C-A2AA-42C9-B460-C1C838FCA2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610366-BAD3-427C-BF14-5C0D4FA42C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79A671-1793-42FC-A333-401DD83731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54B112-FE56-4818-B101-F258076F0C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E9E1-4031-4A52-9972-1E3C565B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2F92F3-0087-40BA-83E7-57B2E25BBE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D408DB-A053-4941-8831-5C9941C89D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C421D6-C333-4BB7-A89F-143B0B7AAF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B37EA2-9C02-41D3-94CC-029A321033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D9AFBC-B33E-4AF5-AB8A-740AD040C2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BB01E6-1CFC-4F96-BB8E-DD3AEB4BB6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88EF2E-4FB0-46AE-94F3-16982C8960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1C90-A806-403A-BD27-FF2B3D66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C2A0-01CC-4346-884F-7AF0343D1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C2DD-9170-4573-A9BE-1035DB93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0BED-8BF1-4EEA-97C0-B3D26857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489C-3367-4444-80B9-989DFCB5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AA8B-391E-4D9B-9B50-B87C8AC4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BC702-2BA2-461B-B24E-50A1D080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E8453-B0E0-47D7-B446-BBA6D3A4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99BFB-1FF6-46E9-963E-2F829FDDB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C0C10-393C-49F4-BB99-0E590AFAE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3CDD1-34FB-4615-80EB-AC79BA8EC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59307-47A3-4DAD-B642-B886680C2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CC16C-75BE-4EED-8829-9585086D9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782C0-D674-45C5-BE33-16F79B5CF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86756-3AC0-4C1A-ABFB-1ED7B4E82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0E3DE-62BF-4370-9523-D1470164E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78F6-4F6B-4D40-BEE1-4F780853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8CDFE-D226-4AFF-AEDF-8CDAB6E15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77C9-49FD-4E39-B652-440AADB3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27BD4-7D5F-4F14-BDC7-1BA592A24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1FD46-FF51-4F14-8864-6CAB2D3A9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0B905B-424C-4660-A219-A32F72BD15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CC99A-AFC7-42ED-B91E-6FD9A74C3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383E3-B55F-4C94-A847-6F1857298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17DC4-F02D-47BA-AFE5-EDCC91EA2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E7BBE-E987-436E-9A75-5B1EFF303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A2064-7F6B-4645-8F5E-1B28CEFAD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26A25-B139-4267-9245-46FF8D033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0F31E-F708-4C6B-A09F-091453ED2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251AB-8ED3-4A75-A522-4A89F907C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1B7CC-E260-415A-ACB5-5A0F538AB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841041-AA25-4DD6-B4B3-09E890AB4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19F7D1-0CEC-48C9-9335-1ECEE1376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37452-305B-4DD2-95DC-A4CF9332A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A065E-1051-4ADC-ADE1-36F02BC9B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274D2-A835-4539-A3B8-D53FDDD21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DE470-32B5-4648-8840-0AE4139EC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3440D-AAE8-4730-9840-069E27330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E5B86-0308-4BA4-AEE9-0710DDAA3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144FC-EB21-436F-915A-26986178D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4947D-8321-4E9F-9DAF-DB284AC9B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2F1DC-1794-40D5-93C5-5E97DD58A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46E3B-9D81-40EF-8FE2-541028706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A5CE0-CCDD-4195-8247-11C43D193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040256-1132-49A7-89C8-620A48D38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0E69C-B9DC-4126-8239-CCDCCAE755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FCAD2F-17B6-40D8-BF38-1C7230CFA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D6F2A-DE7B-4CC4-AF84-CA74C9AFA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6E41D-A2B8-42F1-A912-B491DBC5D0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8856C-E5F0-44EB-BD53-FF3744DCE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F1047-3601-4821-90A8-8160914CA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DD3DB-8B1B-4206-AE4E-CEF754E91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51D9D-4005-4F62-A1EA-D6D48048F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44692-AA10-4DD7-8E5B-E68DC2CC5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80B37-9FA0-413C-B6AC-59C01899A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695B0-21E9-46D0-867C-FCA62E2347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2D0DC1-CD90-4D35-B27A-07D90A32EE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5A790-3A25-4D74-AA34-0943D7BFBB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BE8F9-9F79-48A7-9E90-6D677DF2D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A65D4-C1C1-4CA1-B7FB-B4DC1F8CE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BEECF4-DE1E-403D-9F39-4969BF4CF1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AC9CC-03B9-471C-8718-C603CA903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D589C-79D7-407D-A2DD-394FD0CD2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2EF32-784B-484C-BA22-3F07569E8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4CEF3-5C41-4F64-AD04-C0A873981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09240-0D7C-4F21-9ECA-DE922939A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AAA25-7EB3-461E-8D2B-35878EF12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15B58F-193E-44F7-AFAD-4958DD3B1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7EF5D0-2ECC-41AD-BCC8-37603513B7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A8CACE-6E1E-4A3F-89FC-A7A3C8A91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86E49-CAA0-4D19-AD07-C8E1361BA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3C788C-94D8-432D-B23D-40D52BFB5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36DDDA-AE79-44C8-8DE6-BFB5AD34C8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92D9E-4D2B-49E1-8ECC-70EB2AD4E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7BEBD-640C-4AEE-83F0-30EDF10D5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1CC65-C841-4151-97B5-7521433E65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54533-5FF6-4147-9CF9-C2300D1C3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528EA-6BDA-4FE1-B375-B7CC0677B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53B224-C1EE-4E59-917C-961B3027C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713ED2-EA36-4604-8F69-9599D05F3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D787FC-777F-4C4A-97A1-5D88E4FF8B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2EAE3F-0FFF-4547-870C-3F0EF3B954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E937E9-9FC0-426C-B001-BF0BADB77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DAFAD-98F2-49B3-BDBF-4931962DD2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8F9-8376-46B2-B882-C155F80D671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E7C4-4EBC-4221-9720-F1AE99D5B0DE}"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6251-36F1-4BB4-9F98-635B686F161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5334-F6D6-462C-9D16-CD891B53C820}"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C313-5087-47C1-B37C-8819150EE2D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A216-7F8A-48F5-B4A5-D69A776672B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23AF-78EE-4B14-9813-B4366A0E949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726D-627A-498E-80B7-7EFB65858D8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6FAE-AC92-4345-B405-E201C04E43B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E3BE-860D-4BF6-A6E5-14CA2714264B}"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E7E8-8495-493D-9E98-4E675480655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slide" Target="slide38.xml"/><Relationship Id="rId15" Type="http://schemas.openxmlformats.org/officeDocument/2006/relationships/slide" Target="slide37.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slide" Target="slide37.xml"/><Relationship Id="rId24" Type="http://schemas.openxmlformats.org/officeDocument/2006/relationships/slide" Target="slide37.xml"/><Relationship Id="rId25" Type="http://schemas.openxmlformats.org/officeDocument/2006/relationships/slide" Target="slide37.xml"/><Relationship Id="rId26" Type="http://schemas.openxmlformats.org/officeDocument/2006/relationships/image" Target="../media/image69.png"/><Relationship Id="rId27" Type="http://schemas.openxmlformats.org/officeDocument/2006/relationships/image" Target="../media/image70.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60.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6.jpe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7.jpe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8.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a:hlinkClick r:id="rId14"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a:hlinkClick r:id="rId15"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a:hlinkClick r:id="rId16"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a:hlinkClick r:id="rId17"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a:hlinkClick r:id="rId18"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a:hlinkClick r:id="rId19"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a:hlinkClick r:id="rId20"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a:hlinkClick r:id="rId21"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a:hlinkClick r:id="rId22"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a:hlinkClick r:id="rId23"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a:hlinkClick r:id="rId24"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a:hlinkClick r:id="rId25"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26"/>
          <a:stretch/>
        </p:blipFill>
        <p:spPr>
          <a:xfrm>
            <a:off x="8089920" y="2457360"/>
            <a:ext cx="1041480" cy="419040"/>
          </a:xfrm>
          <a:prstGeom prst="rect">
            <a:avLst/>
          </a:prstGeom>
          <a:ln w="0">
            <a:noFill/>
          </a:ln>
        </p:spPr>
      </p:pic>
      <p:pic>
        <p:nvPicPr>
          <p:cNvPr id="771" name="101 Rectángulo" descr=""/>
          <p:cNvPicPr/>
          <p:nvPr/>
        </p:nvPicPr>
        <p:blipFill>
          <a:blip r:embed="rId27"/>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28"/>
          <a:stretch/>
        </p:blipFill>
        <p:spPr>
          <a:xfrm>
            <a:off x="8174160" y="4456080"/>
            <a:ext cx="1042920" cy="420840"/>
          </a:xfrm>
          <a:prstGeom prst="rect">
            <a:avLst/>
          </a:prstGeom>
          <a:ln w="0">
            <a:noFill/>
          </a:ln>
        </p:spPr>
      </p:pic>
      <p:pic>
        <p:nvPicPr>
          <p:cNvPr id="778" name="112 Rectángulo" descr=""/>
          <p:cNvPicPr/>
          <p:nvPr/>
        </p:nvPicPr>
        <p:blipFill>
          <a:blip r:embed="rId29"/>
          <a:stretch/>
        </p:blipFill>
        <p:spPr>
          <a:xfrm>
            <a:off x="2371680" y="4456080"/>
            <a:ext cx="1041480" cy="420840"/>
          </a:xfrm>
          <a:prstGeom prst="rect">
            <a:avLst/>
          </a:prstGeom>
          <a:ln w="0">
            <a:noFill/>
          </a:ln>
        </p:spPr>
      </p:pic>
      <p:pic>
        <p:nvPicPr>
          <p:cNvPr id="779" name="122 Rectángulo" descr=""/>
          <p:cNvPicPr/>
          <p:nvPr/>
        </p:nvPicPr>
        <p:blipFill>
          <a:blip r:embed="rId30"/>
          <a:stretch/>
        </p:blipFill>
        <p:spPr>
          <a:xfrm>
            <a:off x="7589880" y="5883120"/>
            <a:ext cx="1041480" cy="420840"/>
          </a:xfrm>
          <a:prstGeom prst="rect">
            <a:avLst/>
          </a:prstGeom>
          <a:ln w="0">
            <a:noFill/>
          </a:ln>
        </p:spPr>
      </p:pic>
      <p:pic>
        <p:nvPicPr>
          <p:cNvPr id="780" name="124 Rectángulo" descr=""/>
          <p:cNvPicPr/>
          <p:nvPr/>
        </p:nvPicPr>
        <p:blipFill>
          <a:blip r:embed="rId31"/>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1 Rectángulo" descr=""/>
          <p:cNvPicPr/>
          <p:nvPr/>
        </p:nvPicPr>
        <p:blipFill>
          <a:blip r:embed="rId1"/>
          <a:stretch/>
        </p:blipFill>
        <p:spPr>
          <a:xfrm>
            <a:off x="4248000" y="1285920"/>
            <a:ext cx="2347920" cy="536400"/>
          </a:xfrm>
          <a:prstGeom prst="rect">
            <a:avLst/>
          </a:prstGeom>
          <a:ln w="0">
            <a:noFill/>
          </a:ln>
        </p:spPr>
      </p:pic>
      <p:sp>
        <p:nvSpPr>
          <p:cNvPr id="899"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Calibri"/>
            </a:endParaRPr>
          </a:p>
        </p:txBody>
      </p:sp>
      <p:pic>
        <p:nvPicPr>
          <p:cNvPr id="900" name="3 Imagen" descr="outsourcing_advant.jpg"/>
          <p:cNvPicPr/>
          <p:nvPr/>
        </p:nvPicPr>
        <p:blipFill>
          <a:blip r:embed="rId2"/>
          <a:stretch/>
        </p:blipFill>
        <p:spPr>
          <a:xfrm>
            <a:off x="3571920" y="3786120"/>
            <a:ext cx="3429000" cy="2619360"/>
          </a:xfrm>
          <a:prstGeom prst="rect">
            <a:avLst/>
          </a:prstGeom>
          <a:ln w="0">
            <a:noFill/>
          </a:ln>
        </p:spPr>
      </p:pic>
      <p:sp>
        <p:nvSpPr>
          <p:cNvPr id="901"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2"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1 Rectángulo" descr=""/>
          <p:cNvPicPr/>
          <p:nvPr/>
        </p:nvPicPr>
        <p:blipFill>
          <a:blip r:embed="rId1"/>
          <a:stretch/>
        </p:blipFill>
        <p:spPr>
          <a:xfrm>
            <a:off x="4248000" y="1285920"/>
            <a:ext cx="2347920" cy="536400"/>
          </a:xfrm>
          <a:prstGeom prst="rect">
            <a:avLst/>
          </a:prstGeom>
          <a:ln w="0">
            <a:noFill/>
          </a:ln>
        </p:spPr>
      </p:pic>
      <p:sp>
        <p:nvSpPr>
          <p:cNvPr id="904"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5"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6"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1 Rectángulo" descr=""/>
          <p:cNvPicPr/>
          <p:nvPr/>
        </p:nvPicPr>
        <p:blipFill>
          <a:blip r:embed="rId1"/>
          <a:stretch/>
        </p:blipFill>
        <p:spPr>
          <a:xfrm>
            <a:off x="4248000" y="1285920"/>
            <a:ext cx="2347920" cy="536400"/>
          </a:xfrm>
          <a:prstGeom prst="rect">
            <a:avLst/>
          </a:prstGeom>
          <a:ln w="0">
            <a:noFill/>
          </a:ln>
        </p:spPr>
      </p:pic>
      <p:sp>
        <p:nvSpPr>
          <p:cNvPr id="908"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9"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0"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1 Rectángulo" descr=""/>
          <p:cNvPicPr/>
          <p:nvPr/>
        </p:nvPicPr>
        <p:blipFill>
          <a:blip r:embed="rId1"/>
          <a:stretch/>
        </p:blipFill>
        <p:spPr>
          <a:xfrm>
            <a:off x="4248000" y="1285920"/>
            <a:ext cx="2347920" cy="536400"/>
          </a:xfrm>
          <a:prstGeom prst="rect">
            <a:avLst/>
          </a:prstGeom>
          <a:ln w="0">
            <a:noFill/>
          </a:ln>
        </p:spPr>
      </p:pic>
      <p:sp>
        <p:nvSpPr>
          <p:cNvPr id="912"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Calibri"/>
            </a:endParaRPr>
          </a:p>
        </p:txBody>
      </p:sp>
      <p:sp>
        <p:nvSpPr>
          <p:cNvPr id="914"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Calibri"/>
            </a:endParaRPr>
          </a:p>
        </p:txBody>
      </p:sp>
      <p:sp>
        <p:nvSpPr>
          <p:cNvPr id="915" name="6 CuadroTexto"/>
          <p:cNvSpPr/>
          <p:nvPr/>
        </p:nvSpPr>
        <p:spPr>
          <a:xfrm>
            <a:off x="2928960" y="500076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1 Rectángulo" descr=""/>
          <p:cNvPicPr/>
          <p:nvPr/>
        </p:nvPicPr>
        <p:blipFill>
          <a:blip r:embed="rId1"/>
          <a:stretch/>
        </p:blipFill>
        <p:spPr>
          <a:xfrm>
            <a:off x="4248000" y="1285920"/>
            <a:ext cx="2347920" cy="536400"/>
          </a:xfrm>
          <a:prstGeom prst="rect">
            <a:avLst/>
          </a:prstGeom>
          <a:ln w="0">
            <a:noFill/>
          </a:ln>
        </p:spPr>
      </p:pic>
      <p:sp>
        <p:nvSpPr>
          <p:cNvPr id="917"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18" name="3 Imagen" descr="EULEN.jpg"/>
          <p:cNvPicPr/>
          <p:nvPr/>
        </p:nvPicPr>
        <p:blipFill>
          <a:blip r:embed="rId2"/>
          <a:stretch/>
        </p:blipFill>
        <p:spPr>
          <a:xfrm>
            <a:off x="4214880" y="5357880"/>
            <a:ext cx="2286000" cy="847800"/>
          </a:xfrm>
          <a:prstGeom prst="rect">
            <a:avLst/>
          </a:prstGeom>
          <a:ln w="0">
            <a:noFill/>
          </a:ln>
        </p:spPr>
      </p:pic>
      <p:sp>
        <p:nvSpPr>
          <p:cNvPr id="919"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0" name="1 Rectángulo" descr=""/>
          <p:cNvPicPr/>
          <p:nvPr/>
        </p:nvPicPr>
        <p:blipFill>
          <a:blip r:embed="rId1"/>
          <a:stretch/>
        </p:blipFill>
        <p:spPr>
          <a:xfrm>
            <a:off x="4248000" y="1285920"/>
            <a:ext cx="2347920" cy="536400"/>
          </a:xfrm>
          <a:prstGeom prst="rect">
            <a:avLst/>
          </a:prstGeom>
          <a:ln w="0">
            <a:noFill/>
          </a:ln>
        </p:spPr>
      </p:pic>
      <p:sp>
        <p:nvSpPr>
          <p:cNvPr id="921"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23"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1 Rectángulo" descr=""/>
          <p:cNvPicPr/>
          <p:nvPr/>
        </p:nvPicPr>
        <p:blipFill>
          <a:blip r:embed="rId1"/>
          <a:stretch/>
        </p:blipFill>
        <p:spPr>
          <a:xfrm>
            <a:off x="4248000" y="1285920"/>
            <a:ext cx="2347920" cy="536400"/>
          </a:xfrm>
          <a:prstGeom prst="rect">
            <a:avLst/>
          </a:prstGeom>
          <a:ln w="0">
            <a:noFill/>
          </a:ln>
        </p:spPr>
      </p:pic>
      <p:sp>
        <p:nvSpPr>
          <p:cNvPr id="925"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27"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7T13:21:22Z</dcterms:modified>
  <cp:revision>125</cp:revision>
  <dc:subject/>
  <dc:title>Diapositiva 1</dc:title>
</cp:coreProperties>
</file>